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E6C5-C6C6-4F35-9CA4-551082B3EEEB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CA62-C6BC-46BC-A512-1D0A5F87EEA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esrl.noaa.gov/gmd/obop/mlo/pictures/sunsetmaunaloa1.jpg" TargetMode="External"/><Relationship Id="rId2" Type="http://schemas.openxmlformats.org/officeDocument/2006/relationships/hyperlink" Target="http://www.esrl.noaa.gov/gmd/obop/mlo/pictures/scripts.jpg" TargetMode="External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2874-78B7-40CE-ADE9-22F310B5F46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488B-9BBC-439F-B39E-8D317235659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0A0-D407-484C-8C68-71F074443DC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D41-F113-4032-86A8-DDB311891AF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D05E-4EDC-445A-81D1-B0DADA69C25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2D4-1474-4FCB-BE4A-4237C6F81A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00CA-2267-4873-9A4D-1DE4124E26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E19-B1DA-45C7-A719-52978DEB219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304B-6667-4133-BC67-1D41FDA354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ED5E-8A15-4E1C-891C-DFC53D9346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E241-5D0F-4FE2-91D4-F6EE9D987F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3F4-C650-43F3-A043-121A9E5FBD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07E-941C-4FDC-AC97-23CC7CDDAE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EBE2-29CA-4862-A5BD-03F665239EA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4F12-4E36-4FA7-AEE5-F92742844FB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16DA-79DB-444E-9C14-8E825851A6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0D6B-5BAC-44A4-89F9-AF19AE6B6D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5E76-3555-4352-B711-FE3ED4CD5D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A4B5-33B2-47AA-8104-72F80E75022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73D4-6820-4E49-A813-5A0FC907995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BEC6-7070-4666-A184-64AFAD965CF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373C-1F0A-4FE9-8FD8-E381E48DB28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2ACB-1AB1-42EA-A2A9-7336C245668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1508-4D2C-4B3B-8D3C-AC43A087334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D3EB-09A9-4B56-BDD5-71EA023F639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0C26-4A0E-4317-971C-163CE3668338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rippsco2.ucsd.edu/" TargetMode="External"/><Relationship Id="rId2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mp.data.jhu.edu/sites/default/files/Questionnaire.doc" TargetMode="External"/><Relationship Id="rId3" Type="http://schemas.openxmlformats.org/officeDocument/2006/relationships/hyperlink" Target="http://libraries.mit.edu/guides/subjects/data-management/index.html" TargetMode="External"/><Relationship Id="rId4" Type="http://schemas.openxmlformats.org/officeDocument/2006/relationships/hyperlink" Target="http://www.dcc.ac.uk/resources/data-management-plans" TargetMode="External"/><Relationship Id="rId5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4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Management 101 for Earth Scientists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94680"/>
            <a:ext cx="3411720" cy="8128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6" descr=""/>
          <p:cNvPicPr/>
          <p:nvPr/>
        </p:nvPicPr>
        <p:blipFill>
          <a:blip r:embed="rId4"/>
          <a:stretch/>
        </p:blipFill>
        <p:spPr>
          <a:xfrm>
            <a:off x="7248600" y="789624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2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3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6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38" name="TextBox 14"/>
          <p:cNvSpPr/>
          <p:nvPr/>
        </p:nvSpPr>
        <p:spPr>
          <a:xfrm>
            <a:off x="8026560" y="7924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Photos courtesy of NOAA GMD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013-2E16-4B1D-84EE-F1F79C1CB9F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897480" indent="-385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2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897480" indent="-385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2, in mole fraction in water-vapor-free air measured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,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2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3" name="TextBox 5"/>
          <p:cNvSpPr/>
          <p:nvPr/>
        </p:nvSpPr>
        <p:spPr>
          <a:xfrm>
            <a:off x="787320" y="91440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Photos courtesy of NOAA GMD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4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C9EA-EBD9-4188-8A47-6778F61123B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SO 19115 standard metadata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8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AB0-E3B2-48E0-88DA-DD51A934DB4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monthly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29D-A64F-4051-9656-3DFC283873D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High quality final data product will be available for use by the research and policy communities in perpetuity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metadata record database at CDIAC,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ata product citation, including DOI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Keeling, RF, SC Piper, AF Bollenbacher and JS Walker, 2009. Atmospheric CO2 records from sites in the SIO air sampling network. In Trends: A Compendium of Data on Global Change. Carbon Dioxide Information Analysis Center, Oak Ridge National Laboratory, Oak Ridge,TN, USA. doi: 10.3334/CDIAC/atg.035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7F8-05EA-464E-B75F-FBF1A62FC6B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8" name="Picture 2" descr=""/>
          <p:cNvPicPr/>
          <p:nvPr/>
        </p:nvPicPr>
        <p:blipFill>
          <a:blip r:embed="rId1"/>
          <a:stretch/>
        </p:blipFill>
        <p:spPr>
          <a:xfrm>
            <a:off x="1925640" y="1952640"/>
            <a:ext cx="9323280" cy="6989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59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66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67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DA44-EB66-41A6-94D7-CEEA2C63DE0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4"/>
              </a:rPr>
              <a:t>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922-D570-4573-A8E0-72E78B8EC09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124B-2CEC-483B-91EA-1067CB92062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1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2" name="Content Placeholder 2"/>
          <p:cNvSpPr/>
          <p:nvPr/>
        </p:nvSpPr>
        <p:spPr>
          <a:xfrm>
            <a:off x="330120" y="4038480"/>
            <a:ext cx="59436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C07-F160-4E34-A452-440C2FB8D00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shared, common data set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preserving and shar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6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7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8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7E3-E108-4223-B2B0-11E9C550512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0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3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4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66A-4F42-497C-B19A-3199AD197C5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tab-delimited, naming conventi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8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EA8-475B-4FFF-8456-197E455A732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8073-2929-4F70-93A4-69496B38C45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6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1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BF97-DC67-4131-BB83-94BC56AB75E9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20" name="Picture 4" descr=""/>
          <p:cNvPicPr/>
          <p:nvPr/>
        </p:nvPicPr>
        <p:blipFill>
          <a:blip r:embed="rId1"/>
          <a:stretch/>
        </p:blipFill>
        <p:spPr>
          <a:xfrm>
            <a:off x="10572840" y="43117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6" descr=""/>
          <p:cNvPicPr/>
          <p:nvPr/>
        </p:nvPicPr>
        <p:blipFill>
          <a:blip r:embed="rId2"/>
          <a:stretch/>
        </p:blipFill>
        <p:spPr>
          <a:xfrm>
            <a:off x="10193400" y="6267600"/>
            <a:ext cx="1566720" cy="74268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7" descr="lterlogo_blue"/>
          <p:cNvPicPr/>
          <p:nvPr/>
        </p:nvPicPr>
        <p:blipFill>
          <a:blip r:embed="rId3"/>
          <a:stretch/>
        </p:blipFill>
        <p:spPr>
          <a:xfrm>
            <a:off x="8480520" y="3503520"/>
            <a:ext cx="1027080" cy="120816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22" descr="NASA4.jpg"/>
          <p:cNvPicPr/>
          <p:nvPr/>
        </p:nvPicPr>
        <p:blipFill>
          <a:blip r:embed="rId4"/>
          <a:stretch/>
        </p:blipFill>
        <p:spPr>
          <a:xfrm>
            <a:off x="10155240" y="2711520"/>
            <a:ext cx="1241280" cy="126684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9" descr="USGS-Trans.tif"/>
          <p:cNvPicPr/>
          <p:nvPr/>
        </p:nvPicPr>
        <p:blipFill>
          <a:blip r:embed="rId5"/>
          <a:stretch/>
        </p:blipFill>
        <p:spPr>
          <a:xfrm>
            <a:off x="939960" y="7772400"/>
            <a:ext cx="1828800" cy="67464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0" descr=""/>
          <p:cNvPicPr/>
          <p:nvPr/>
        </p:nvPicPr>
        <p:blipFill>
          <a:blip r:embed="rId6"/>
          <a:stretch/>
        </p:blipFill>
        <p:spPr>
          <a:xfrm>
            <a:off x="8745480" y="5391000"/>
            <a:ext cx="14731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6" name="Group 11"/>
          <p:cNvGrpSpPr/>
          <p:nvPr/>
        </p:nvGrpSpPr>
        <p:grpSpPr>
          <a:xfrm>
            <a:off x="3819600" y="7180200"/>
            <a:ext cx="1616040" cy="1658880"/>
            <a:chOff x="3819600" y="7180200"/>
            <a:chExt cx="1616040" cy="1658880"/>
          </a:xfrm>
        </p:grpSpPr>
        <p:pic>
          <p:nvPicPr>
            <p:cNvPr id="1227" name="Picture 10" descr="Screen shot 2010-07-24 at 19.21.45 .png"/>
            <p:cNvPicPr/>
            <p:nvPr/>
          </p:nvPicPr>
          <p:blipFill>
            <a:blip r:embed="rId7"/>
            <a:stretch/>
          </p:blipFill>
          <p:spPr>
            <a:xfrm>
              <a:off x="3819600" y="8109360"/>
              <a:ext cx="149148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  <p:pic>
          <p:nvPicPr>
            <p:cNvPr id="1228" name="Picture 13" descr=""/>
            <p:cNvPicPr/>
            <p:nvPr/>
          </p:nvPicPr>
          <p:blipFill>
            <a:blip r:embed="rId8"/>
            <a:stretch/>
          </p:blipFill>
          <p:spPr>
            <a:xfrm>
              <a:off x="3819600" y="7180200"/>
              <a:ext cx="161604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</p:grpSp>
      <p:pic>
        <p:nvPicPr>
          <p:cNvPr id="1229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337520" y="7848720"/>
            <a:ext cx="4043160" cy="96660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B7C-8E0E-484C-89AF-32B4F323EEB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2-03T20:08:18Z</dcterms:modified>
  <cp:revision>68</cp:revision>
  <dc:subject/>
  <dc:title>ESIP Federation 101</dc:title>
</cp:coreProperties>
</file>